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13.png" ContentType="image/png"/>
  <Override PartName="/ppt/media/image5.png" ContentType="image/png"/>
  <Override PartName="/ppt/media/image10.png" ContentType="image/png"/>
  <Override PartName="/ppt/media/image4.gif" ContentType="image/gif"/>
  <Override PartName="/ppt/media/image7.png" ContentType="image/png"/>
  <Override PartName="/ppt/media/image12.png" ContentType="image/png"/>
  <Override PartName="/ppt/media/image8.gif" ContentType="image/gif"/>
  <Override PartName="/ppt/media/image9.png" ContentType="image/png"/>
  <Override PartName="/ppt/media/image6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75D2-BC86-46D0-8E53-712044CCD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72D6-B528-451B-B8B0-19957BC21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C067-642B-405C-AD12-CB1F9AC1D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F6F7-245B-4669-907B-934F8C539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9A03A-F6EC-4546-A484-634A2DF2F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B7D56-874B-49C2-B72F-13C03F4BF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6AA0B-A171-4704-8B0E-3CCBB5DA9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A5635-6CFA-4CA2-897F-2BB6481CA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5C4D0-C80B-4896-BEC4-73D4BAA8C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D0235-EDBD-41AD-A92D-03CA9B640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28B6E-AC9A-4A46-A97D-30EA015FB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F6D3-177B-4101-AEF0-FC62BD9C1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6CD00-D364-419C-8ACF-8F68EDBCA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C745F-1CA7-4D8F-9A21-B4BDFDF64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8089E-956A-4E62-BEEA-1EF4AD3A7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4DAE6-C534-4CD8-974C-E4BDB81C4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B13D5-C2AD-4ADB-B3AC-272A5FCAB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A461-A079-48AD-ADA8-F03171318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592D-097E-4960-9AED-AB9D3DE15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6AB8-0AB4-48EE-9A2B-03C68F5CC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D6A4-03A9-4D0F-BD6F-D68937135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AFD0-A065-4088-BC49-E4CB29D46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6584-3A6B-4A32-A49F-0B62AD73D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5DF8-F3C8-41BC-88EE-1A0615CED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6EC8B-42A3-45C5-A09A-A8B35F88AAA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A44FC-D926-476F-9004-F860D8C624D1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WordArt 5"/>
          <p:cNvSpPr txBox="1"/>
          <p:nvPr/>
        </p:nvSpPr>
        <p:spPr>
          <a:xfrm>
            <a:off x="684360" y="1484280"/>
            <a:ext cx="7345080" cy="32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Геометрия вокруг нас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63" name="Picture 7" descr="глобус"/>
          <p:cNvPicPr/>
          <p:nvPr/>
        </p:nvPicPr>
        <p:blipFill>
          <a:blip r:embed="rId1"/>
          <a:stretch/>
        </p:blipFill>
        <p:spPr>
          <a:xfrm>
            <a:off x="1476360" y="692280"/>
            <a:ext cx="1219320" cy="1218960"/>
          </a:xfrm>
          <a:prstGeom prst="rect">
            <a:avLst/>
          </a:prstGeom>
          <a:ln w="0">
            <a:noFill/>
          </a:ln>
        </p:spPr>
      </p:pic>
      <p:sp>
        <p:nvSpPr>
          <p:cNvPr id="164" name="AutoShape 8"/>
          <p:cNvSpPr/>
          <p:nvPr/>
        </p:nvSpPr>
        <p:spPr>
          <a:xfrm>
            <a:off x="3492360" y="4437000"/>
            <a:ext cx="5472360" cy="2089080"/>
          </a:xfrm>
          <a:prstGeom prst="cloudCallout">
            <a:avLst>
              <a:gd name="adj1" fmla="val 12893"/>
              <a:gd name="adj2" fmla="val -35560"/>
            </a:avLst>
          </a:prstGeom>
          <a:solidFill>
            <a:srgbClr val="79c1e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В ходе проекта вы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07552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знаете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ким образом геометрия возникла из практических задач землемер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к используются формулы площади для решения математических задач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к решать задачи реальной действительности математическими методами, какие ошибки могут возникнуть при эт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Picture 4" descr=""/>
          <p:cNvPicPr/>
          <p:nvPr/>
        </p:nvPicPr>
        <p:blipFill>
          <a:blip r:embed="rId4"/>
          <a:stretch/>
        </p:blipFill>
        <p:spPr>
          <a:xfrm>
            <a:off x="3564000" y="3933720"/>
            <a:ext cx="3024000" cy="2730600"/>
          </a:xfrm>
          <a:prstGeom prst="rect">
            <a:avLst/>
          </a:prstGeom>
          <a:ln w="0">
            <a:noFill/>
          </a:ln>
        </p:spPr>
      </p:pic>
      <p:sp>
        <p:nvSpPr>
          <p:cNvPr id="189" name="Rectangle 5"/>
          <p:cNvSpPr/>
          <p:nvPr/>
        </p:nvSpPr>
        <p:spPr>
          <a:xfrm>
            <a:off x="611280" y="443628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Rectangle 6"/>
          <p:cNvSpPr/>
          <p:nvPr/>
        </p:nvSpPr>
        <p:spPr>
          <a:xfrm>
            <a:off x="7308720" y="4941000"/>
            <a:ext cx="13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=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В ходе проекта вы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39640" y="980640"/>
            <a:ext cx="8136000" cy="35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учитесь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спознавать геометрические фигуры, различать их взаимное расположение, изображать геометрические фигуры, выполнять чертежи по условию задач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льзоваться основными единицами площад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ычислять средние значения результатов измерений площад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едставлять результаты учебной деятельности с помощью средств ИК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Picture 4" descr=""/>
          <p:cNvPicPr/>
          <p:nvPr/>
        </p:nvPicPr>
        <p:blipFill>
          <a:blip r:embed="rId5"/>
          <a:stretch/>
        </p:blipFill>
        <p:spPr>
          <a:xfrm>
            <a:off x="900000" y="4437000"/>
            <a:ext cx="2484720" cy="21240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5" descr=""/>
          <p:cNvPicPr/>
          <p:nvPr/>
        </p:nvPicPr>
        <p:blipFill>
          <a:blip r:embed="rId6"/>
          <a:stretch/>
        </p:blipFill>
        <p:spPr>
          <a:xfrm>
            <a:off x="5219640" y="4508640"/>
            <a:ext cx="2665440" cy="20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ff"/>
                </a:solidFill>
                <a:uFillTx/>
                <a:latin typeface="Arial"/>
              </a:rPr>
              <a:t>Основополагающий вопрос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532440" y="1699560"/>
            <a:ext cx="7849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Как измерить все вокруг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Picture 8" descr=""/>
          <p:cNvPicPr/>
          <p:nvPr/>
        </p:nvPicPr>
        <p:blipFill>
          <a:blip r:embed="rId1"/>
          <a:stretch/>
        </p:blipFill>
        <p:spPr>
          <a:xfrm>
            <a:off x="2771640" y="2637000"/>
            <a:ext cx="3957840" cy="37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ff"/>
                </a:solidFill>
                <a:uFillTx/>
                <a:latin typeface="Arial"/>
              </a:rPr>
              <a:t>Проблемные вопросы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324000" y="1492200"/>
            <a:ext cx="8616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ак измерить площадь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частка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ак соотносятся периметр и площадь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ак рассчитать расход строительных материалов для ремонта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Picture 6" descr=""/>
          <p:cNvPicPr/>
          <p:nvPr/>
        </p:nvPicPr>
        <p:blipFill>
          <a:blip r:embed="rId1"/>
          <a:stretch/>
        </p:blipFill>
        <p:spPr>
          <a:xfrm>
            <a:off x="539640" y="3429000"/>
            <a:ext cx="1276560" cy="12193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"/>
          <p:cNvPicPr/>
          <p:nvPr/>
        </p:nvPicPr>
        <p:blipFill>
          <a:blip r:embed="rId2"/>
          <a:stretch/>
        </p:blipFill>
        <p:spPr>
          <a:xfrm>
            <a:off x="4143240" y="3929040"/>
            <a:ext cx="3737160" cy="26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44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ff"/>
                </a:solidFill>
                <a:uFillTx/>
                <a:latin typeface="Arial"/>
              </a:rPr>
              <a:t>Учебные вопросы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684360" y="1796040"/>
            <a:ext cx="7704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Что такое площадь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ак вычисляется площадь прямоугольника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акие единицы измерения площади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Что такое прямоугольный параллелепипед, как вычислить площадь его поверхности?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Picture 5" descr="кубики"/>
          <p:cNvPicPr/>
          <p:nvPr/>
        </p:nvPicPr>
        <p:blipFill>
          <a:blip r:embed="rId1"/>
          <a:stretch/>
        </p:blipFill>
        <p:spPr>
          <a:xfrm>
            <a:off x="250920" y="476280"/>
            <a:ext cx="151128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ff"/>
                </a:solidFill>
                <a:uFillTx/>
                <a:latin typeface="Arial"/>
              </a:rPr>
              <a:t>Целю проекта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является то, что бы научить переводить из одних единиц объема в другие, применять эти знания в реальной жизни.  Эти знания необходимы и в дальнейшем при решении различных текстовых задач как в математике, так и в геометрии, черчении, физик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364000" y="4807080"/>
            <a:ext cx="2953080" cy="17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Исследовательские группы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Группа «Теоретики»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Группа «Землемеры»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Группа «Бригада ремонтников»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Группа «Теоретики»</a:t>
            </a:r>
            <a:br>
              <a:rPr sz="6600"/>
            </a:b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Как соотносятся площади и периметры фигур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Вспомогательные вопросы: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 связаны периметры и площади равных фигура? Какая фигура имеет наибольшую площадь при заданном периметре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7643880" cy="84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Группа «Землемеры»</a:t>
            </a:r>
            <a:br>
              <a:rPr sz="5400"/>
            </a:b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Как вычислить площадь сложной фигуры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Вспомогательные вопросы: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 измерить площадь фигуры, стороны которой совпадает со сторонами квадратов? Как измерить площадь фигуры, стороны которой не совпадают со сторонами квадратов? Какие единицы измерения площади используются для измерения земли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Группа «Бригада ремонтников»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Как рассчитать расход строительных материалов для ремонта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Вспомогательные вопросы: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кие размеры класса? Какие материалы необходимо для ремонта? Какие параметры необходимо знать для расчета? В каких единицах они измеряются? Сколько материала необходимо для ремонта пола, стен, потолка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2T12:12:57Z</dcterms:created>
  <dc:creator>Admin</dc:creator>
  <dc:description/>
  <dc:language>en-US</dc:language>
  <cp:lastModifiedBy>26545</cp:lastModifiedBy>
  <dcterms:modified xsi:type="dcterms:W3CDTF">2010-05-17T09:35:44Z</dcterms:modified>
  <cp:revision>7</cp:revision>
  <dc:subject/>
  <dc:title>Слайд 1</dc:title>
</cp:coreProperties>
</file>